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2DE4E16E-F3C2-4DFC-94AC-82201D0A8E72}"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62F3D441-C764-417B-B8F5-8EB845F2B831}"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E5B48-732C-4B49-A347-965ABA914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D14E9-ADDF-468F-A0AE-B071EEA74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BA22F3-16C8-4605-A261-AC51EAF5C7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861D3B-AD22-4F2C-BADB-C421F827D5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63A47-24DD-47DA-B2C7-52D832088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B5693-E232-46EA-A0AC-D52D3791A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8067C-17CC-489A-BA09-09E8BAA47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CBBC9-13F7-487C-B4C3-F589BDA53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B4409-C874-4041-B4A0-D4FB94C4D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16C1A-4B9D-46DC-9386-A31A02970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31261-9201-4C94-8519-438CCB9DE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E8159-CF2E-4099-B389-3C75C1A4A4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007F3-E788-4E14-B65C-070655AB1E07}"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2" descr="cid:image004.png@01D7B519.9E61D320"/>
          <p:cNvPicPr/>
          <p:nvPr/>
        </p:nvPicPr>
        <p:blipFill>
          <a:blip r:embed="rId2"/>
          <a:stretch/>
        </p:blipFill>
        <p:spPr>
          <a:xfrm>
            <a:off x="3203640" y="588960"/>
            <a:ext cx="558144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1F38B-D2C8-436E-9D97-92D38FEBF31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85A7F-5AD5-431F-9151-089859AF6E7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40C53-40B6-4D91-A29A-C46E36CBD70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25D5B-E79E-4A08-9C7D-BA995BC96D7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B5EA2-4243-4148-AD5F-3E3E8B46A95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1C5AF-D3E2-4508-B6CA-5A5D92DC837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A03D0-A02C-4A5A-8A26-5EF8E4E3CD2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179B3-2AC9-4841-9E1B-0F3BC27087C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8C7A6-C326-4247-BFCA-D5E9AEEC9B3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DE74B-5D75-4AE0-926E-326A965CEA7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48A44-B4F0-4F7D-96D5-3B775FEE11E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58434-01FB-4603-A4EE-774BA042F84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25BE0-AF60-41F3-B294-34A5F9E3746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B7BBD-90FC-4448-BB2D-B2415F6E63F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EFD2E-C777-462C-B28B-49BD4006E35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E20EC-C1E9-405D-82B5-A06B30A1710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97F36-56C5-49D6-8B69-025CDFCDF6A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F9B88-4138-4C82-BD41-E9FD391CD64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A17BA-A444-4AEC-B514-5BD3CB8145A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FF66F-FA3D-4940-BE1C-DDB9609AF1A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CCB46-66DE-4217-B471-CD0D9FD5156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3261F-B910-4EC1-83D3-4FE39B57ED6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7B4E6-81A2-4302-A7FD-1B52EB51845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742A3-240A-41AC-B3CF-E65055C534E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7F75D-C4AD-44D0-9010-1294E0D834A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B9351-F431-412C-8030-7211A958079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5C3B3-6B9F-4ED4-8CF9-238F752F09F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C5535-5C3D-456F-8131-8D08B8F038F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ED321-710C-4983-A55B-1FD82718E06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13A5D-9A38-42DE-9FFA-E44723D863D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D2C01-7B33-4051-9BA5-76884EBE58F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D7B57-4009-4FAC-AE06-E0876E47674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A1B4A-31D8-4A0E-B37E-D58ADEA9E44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96568-5545-4363-BF66-0DD1460E98A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6EEE7-2EED-41DF-A4D1-8C3A265C4EB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AB7EA-43B7-404C-9835-C1E695AE1CB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45DC8-8DD2-4454-8A3E-80676A05C9B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12E62-D4A9-4734-83C8-CE0EE567DCD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626BF-B4B9-4B7C-86DC-CF5826F0116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17875-D203-4BA5-B250-2ECF9F504F5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DA0B5-6E6F-4FA0-BB22-E22C5A4C221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21-09-29T12:18:34Z</dcterms:modified>
  <cp:revision>76</cp:revision>
  <dc:subject/>
  <dc:title>Aims and Objectives</dc:title>
</cp:coreProperties>
</file>